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5204-A723-430C-93C1-AC6DF906C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193-A13A-4603-BE46-17A606BC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3BE6-D90C-49BB-B58C-5560419E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1DAC-A24F-4E51-BA1F-7E048942B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F76D-EDC1-4823-B6A5-9A251AA2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F3A5-FC8B-4BF7-A437-2A8BF56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CB2-BB59-4F97-ADCA-32A5BFA0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866C-605F-4304-AECE-78DC879D6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5737-1C5E-4BAD-903F-FEEDE56C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7A86-25C9-4FEB-A8AB-6CCC8173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9AA1-0724-424D-8251-37EC773F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9F5E-67A8-479E-912B-9CC044D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5C8A-4A7A-4549-9E20-09B3EB48C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4423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86364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1. Henry Mountai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lack DH, Dobson LK, du Toit JT, Derr J (2015) Genetic Analysis of the Henry Mountains Bison Herd. PLOS ONE 10(12): e0144239. https://doi.org/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